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926F-F668-4045-A8B0-B601010571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6BE-5DBD-48F5-9C3E-FBB39A4C3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F74-65ED-4ADA-882F-709735D5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C13-2777-4DD3-998E-6CC2C732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CF5-AA09-4961-9623-661016A6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8B2-9F30-4078-944F-51A1B74D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7BAC-5FAB-4AE0-8665-175F1A10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54F1-1593-4888-8FFA-6BC7068A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688E-3ADB-4C4C-8A57-DD649EE7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C934-E759-4D53-9445-4768612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A2DA-FF34-4CD5-A049-B4C542F1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CC6-7EE1-4E08-BF96-62AA047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BF51-205C-4BA7-B7B4-EE3A0C9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732-211A-4187-AE9F-459E0B18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300C-BB56-4537-AA26-5A86DB4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9C74-4EF2-46F3-B3A3-7F9D4BA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AE64-7DCE-4EEA-9DF8-60021911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EEED-448E-4276-A372-300D922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C4C0-922A-4910-A3B4-7AAEC22F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EE0E-4961-4D1B-8EE5-D306E866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7815-F7C7-4000-B8C6-506FE8CD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DB5B-4166-4404-9BBB-4DA69AA1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39BF-DF42-4049-815D-3C8AC197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8ED5-5BD6-4A00-BE3F-FEBC39D5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D9C-1834-4415-8015-ACEA5AC8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DF40-2C8A-4A54-BEE9-13E1E846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7165-8E44-4C08-8071-DA50FEC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D6DD-C758-4761-834A-E9DE463B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94F0-451E-4964-BC38-7D4EC8E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C361-E98C-4087-B8E3-8FE08233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687F-3C6C-4656-81D0-3A92B700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2DBE1-3CE7-4B8A-8F66-3658746C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BFAC-5451-4AC2-8F4B-4B652DF4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70C9-6FFE-470C-85CE-D0BD06A4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7B68-FBAD-49B4-9DD0-7B2B996C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0D5-1307-4077-84BD-809FE00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7318-63D8-44E1-9E20-FA3127BF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7DD33-C146-4255-A1A9-37908740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FBAD-55E8-4102-AAD7-E7823CAA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FACB-4F82-4FA2-8BDE-41723A0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E7D9-4D1D-410B-8580-917FF17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A175-AF50-4D0D-A42A-A1850AAF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7D5F-A9F3-4974-B70B-D4AAAF5E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4002-A322-4776-A60A-9D7B47E2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E94D-6233-4048-A71B-704BA412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49A-BF09-4152-8F73-2DA891D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483-3A76-4805-9E36-4C5C8D49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FE7-8CD8-4B53-A794-E6D84870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470-5B73-4DA7-AF2E-22E55771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A7D-06B6-44BD-B887-394466A2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BF5-3E58-4926-A17C-DA0A52336B84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dd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8"/>
          <p:cNvSpPr/>
          <p:nvPr/>
        </p:nvSpPr>
        <p:spPr>
          <a:xfrm rot="20011800">
            <a:off x="2027160" y="-730080"/>
            <a:ext cx="1327320" cy="8323200"/>
          </a:xfrm>
          <a:custGeom>
            <a:avLst/>
            <a:gdLst/>
            <a:ahLst/>
            <a:rect l="l" t="t" r="r" b="b"/>
            <a:pathLst>
              <a:path w="1327169" h="8323367">
                <a:moveTo>
                  <a:pt x="955" y="0"/>
                </a:moveTo>
                <a:lnTo>
                  <a:pt x="1318112" y="654885"/>
                </a:lnTo>
                <a:cubicBezTo>
                  <a:pt x="1320286" y="3274913"/>
                  <a:pt x="1324995" y="5703339"/>
                  <a:pt x="1327169" y="8323367"/>
                </a:cubicBezTo>
                <a:lnTo>
                  <a:pt x="0" y="7667068"/>
                </a:lnTo>
                <a:cubicBezTo>
                  <a:pt x="1270" y="4829700"/>
                  <a:pt x="-315" y="2837368"/>
                  <a:pt x="95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0"/>
          <p:cNvSpPr/>
          <p:nvPr/>
        </p:nvSpPr>
        <p:spPr>
          <a:xfrm rot="18357600">
            <a:off x="4147200" y="-1913760"/>
            <a:ext cx="541440" cy="11312640"/>
          </a:xfrm>
          <a:custGeom>
            <a:avLst/>
            <a:gdLst/>
            <a:ahLst/>
            <a:rect l="l" t="t" r="r" b="b"/>
            <a:pathLst>
              <a:path w="541232" h="11312532">
                <a:moveTo>
                  <a:pt x="1600" y="393968"/>
                </a:moveTo>
                <a:lnTo>
                  <a:pt x="541232" y="0"/>
                </a:lnTo>
                <a:cubicBezTo>
                  <a:pt x="540071" y="4024582"/>
                  <a:pt x="527680" y="7287950"/>
                  <a:pt x="526519" y="11312532"/>
                </a:cubicBezTo>
                <a:lnTo>
                  <a:pt x="0" y="10597786"/>
                </a:lnTo>
                <a:cubicBezTo>
                  <a:pt x="533" y="7196513"/>
                  <a:pt x="1067" y="3795241"/>
                  <a:pt x="1600" y="3939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Rectangle 13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5" name="Rectangle 13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14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8" name="Rectangl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5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6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2" name="Oval 16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5" descr="Lots of fun ideas to create my own wall art!  :)"/>
          <p:cNvPicPr/>
          <p:nvPr/>
        </p:nvPicPr>
        <p:blipFill>
          <a:blip r:embed="rId6"/>
          <a:stretch/>
        </p:blipFill>
        <p:spPr>
          <a:xfrm>
            <a:off x="-1976400" y="1441440"/>
            <a:ext cx="14288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1"/>
          <p:cNvGrpSpPr/>
          <p:nvPr/>
        </p:nvGrpSpPr>
        <p:grpSpPr>
          <a:xfrm>
            <a:off x="-319320" y="-589320"/>
            <a:ext cx="9608040" cy="8042040"/>
            <a:chOff x="-319320" y="-589320"/>
            <a:chExt cx="9608040" cy="8042040"/>
          </a:xfrm>
        </p:grpSpPr>
        <p:sp>
          <p:nvSpPr>
            <p:cNvPr id="66" name="Rectangle 8"/>
            <p:cNvSpPr/>
            <p:nvPr/>
          </p:nvSpPr>
          <p:spPr>
            <a:xfrm rot="20011800">
              <a:off x="2027160" y="-729720"/>
              <a:ext cx="1326960" cy="8323200"/>
            </a:xfrm>
            <a:custGeom>
              <a:avLst/>
              <a:gdLst/>
              <a:ahLst/>
              <a:rect l="l" t="t" r="r" b="b"/>
              <a:pathLst>
                <a:path w="1327169" h="8323367">
                  <a:moveTo>
                    <a:pt x="955" y="0"/>
                  </a:moveTo>
                  <a:lnTo>
                    <a:pt x="1318112" y="654885"/>
                  </a:lnTo>
                  <a:cubicBezTo>
                    <a:pt x="1320286" y="3274913"/>
                    <a:pt x="1324995" y="5703339"/>
                    <a:pt x="1327169" y="8323367"/>
                  </a:cubicBezTo>
                  <a:lnTo>
                    <a:pt x="0" y="7667068"/>
                  </a:lnTo>
                  <a:cubicBezTo>
                    <a:pt x="1270" y="4829700"/>
                    <a:pt x="-315" y="2837368"/>
                    <a:pt x="9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 rot="2414400">
              <a:off x="4973400" y="-1415520"/>
              <a:ext cx="819000" cy="9681840"/>
            </a:xfrm>
            <a:custGeom>
              <a:avLst/>
              <a:gdLst/>
              <a:ahLst/>
              <a:rect l="l" t="t" r="r" b="b"/>
              <a:pathLst>
                <a:path w="819146" h="9682338">
                  <a:moveTo>
                    <a:pt x="7626" y="680378"/>
                  </a:moveTo>
                  <a:lnTo>
                    <a:pt x="818269" y="0"/>
                  </a:lnTo>
                  <a:cubicBezTo>
                    <a:pt x="818561" y="2996955"/>
                    <a:pt x="818854" y="5993911"/>
                    <a:pt x="819146" y="8990866"/>
                  </a:cubicBezTo>
                  <a:lnTo>
                    <a:pt x="0" y="9682338"/>
                  </a:lnTo>
                  <a:cubicBezTo>
                    <a:pt x="1630" y="6384711"/>
                    <a:pt x="5996" y="3978005"/>
                    <a:pt x="7626" y="6803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 rot="18357600">
              <a:off x="4147200" y="-1914120"/>
              <a:ext cx="541080" cy="11312640"/>
            </a:xfrm>
            <a:custGeom>
              <a:avLst/>
              <a:gdLst/>
              <a:ahLst/>
              <a:rect l="l" t="t" r="r" b="b"/>
              <a:pathLst>
                <a:path w="541232" h="11312532">
                  <a:moveTo>
                    <a:pt x="1600" y="393968"/>
                  </a:moveTo>
                  <a:lnTo>
                    <a:pt x="541232" y="0"/>
                  </a:lnTo>
                  <a:cubicBezTo>
                    <a:pt x="540071" y="4024582"/>
                    <a:pt x="527680" y="7287950"/>
                    <a:pt x="526519" y="11312532"/>
                  </a:cubicBezTo>
                  <a:lnTo>
                    <a:pt x="0" y="10597786"/>
                  </a:lnTo>
                  <a:cubicBezTo>
                    <a:pt x="533" y="7196513"/>
                    <a:pt x="1067" y="3795241"/>
                    <a:pt x="1600" y="3939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 rot="15304200">
              <a:off x="4299840" y="249480"/>
              <a:ext cx="545760" cy="9615600"/>
            </a:xfrm>
            <a:custGeom>
              <a:avLst/>
              <a:gdLst/>
              <a:ahLst/>
              <a:rect l="l" t="t" r="r" b="b"/>
              <a:pathLst>
                <a:path w="545184" h="9615802">
                  <a:moveTo>
                    <a:pt x="9411" y="0"/>
                  </a:moveTo>
                  <a:lnTo>
                    <a:pt x="545184" y="144168"/>
                  </a:lnTo>
                  <a:cubicBezTo>
                    <a:pt x="544662" y="3840419"/>
                    <a:pt x="545078" y="5919551"/>
                    <a:pt x="544556" y="9615802"/>
                  </a:cubicBezTo>
                  <a:lnTo>
                    <a:pt x="0" y="9473797"/>
                  </a:lnTo>
                  <a:cubicBezTo>
                    <a:pt x="2303" y="5729490"/>
                    <a:pt x="7108" y="3744307"/>
                    <a:pt x="94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 rot="460800">
              <a:off x="6219360" y="-51840"/>
              <a:ext cx="268200" cy="6959520"/>
            </a:xfrm>
            <a:custGeom>
              <a:avLst/>
              <a:gdLst/>
              <a:ahLst/>
              <a:rect l="l" t="t" r="r" b="b"/>
              <a:pathLst>
                <a:path w="268180" h="6960250">
                  <a:moveTo>
                    <a:pt x="0" y="28895"/>
                  </a:moveTo>
                  <a:lnTo>
                    <a:pt x="268131" y="0"/>
                  </a:lnTo>
                  <a:cubicBezTo>
                    <a:pt x="268685" y="2661239"/>
                    <a:pt x="264389" y="4266898"/>
                    <a:pt x="264943" y="6928137"/>
                  </a:cubicBezTo>
                  <a:lnTo>
                    <a:pt x="2114" y="6960250"/>
                  </a:lnTo>
                  <a:cubicBezTo>
                    <a:pt x="1409" y="4649798"/>
                    <a:pt x="705" y="2339347"/>
                    <a:pt x="0" y="28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E1D0-B9CB-4117-B100-3626A84BFD1A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dd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 rot="20011800">
            <a:off x="2027160" y="-730080"/>
            <a:ext cx="1327320" cy="8323200"/>
          </a:xfrm>
          <a:custGeom>
            <a:avLst/>
            <a:gdLst/>
            <a:ahLst/>
            <a:rect l="l" t="t" r="r" b="b"/>
            <a:pathLst>
              <a:path w="1327169" h="8323367">
                <a:moveTo>
                  <a:pt x="955" y="0"/>
                </a:moveTo>
                <a:lnTo>
                  <a:pt x="1318112" y="654885"/>
                </a:lnTo>
                <a:cubicBezTo>
                  <a:pt x="1320286" y="3274913"/>
                  <a:pt x="1324995" y="5703339"/>
                  <a:pt x="1327169" y="8323367"/>
                </a:cubicBezTo>
                <a:lnTo>
                  <a:pt x="0" y="7667068"/>
                </a:lnTo>
                <a:cubicBezTo>
                  <a:pt x="1270" y="4829700"/>
                  <a:pt x="-315" y="2837368"/>
                  <a:pt x="95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rot="18357600">
            <a:off x="4147200" y="-1913760"/>
            <a:ext cx="541440" cy="11312640"/>
          </a:xfrm>
          <a:custGeom>
            <a:avLst/>
            <a:gdLst/>
            <a:ahLst/>
            <a:rect l="l" t="t" r="r" b="b"/>
            <a:pathLst>
              <a:path w="541232" h="11312532">
                <a:moveTo>
                  <a:pt x="1600" y="393968"/>
                </a:moveTo>
                <a:lnTo>
                  <a:pt x="541232" y="0"/>
                </a:lnTo>
                <a:cubicBezTo>
                  <a:pt x="540071" y="4024582"/>
                  <a:pt x="527680" y="7287950"/>
                  <a:pt x="526519" y="11312532"/>
                </a:cubicBezTo>
                <a:lnTo>
                  <a:pt x="0" y="10597786"/>
                </a:lnTo>
                <a:cubicBezTo>
                  <a:pt x="533" y="7196513"/>
                  <a:pt x="1067" y="3795241"/>
                  <a:pt x="1600" y="3939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Rectangle 13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6" name="Rectangle 13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ectangle 14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9" name="Rectangle 14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5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Oval 16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3" name="Oval 16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675-E441-4CF4-BEB9-8985EF018C54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13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77" name="Rectangle 13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ectangle 14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0" name="Rectangl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5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Oval 16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4" name="Oval 16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BC1D-AE7D-427A-A8E0-C689F4F275C0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esentationmagazine.com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189000" y="2066760"/>
            <a:ext cx="8851680" cy="1401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Trebuchet MS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Placeholder 1" descr=""/>
          <p:cNvPicPr/>
          <p:nvPr/>
        </p:nvPicPr>
        <p:blipFill>
          <a:blip r:embed="rId1"/>
          <a:stretch/>
        </p:blipFill>
        <p:spPr>
          <a:xfrm>
            <a:off x="4900680" y="1030320"/>
            <a:ext cx="3481200" cy="6613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77680" y="1011240"/>
            <a:ext cx="36939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1144440" y="106992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4440" y="249876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4554360" y="2498760"/>
            <a:ext cx="3640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036800" y="478152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find many more free PowerPoint templates on the Presentation Magazine website </a:t>
            </a:r>
            <a:r>
              <a:rPr b="0" lang="en-GB" sz="2000" spc="-1" strike="noStrike" u="sng">
                <a:solidFill>
                  <a:srgbClr val="39a612"/>
                </a:solidFill>
                <a:uFillTx/>
                <a:latin typeface="Arial"/>
                <a:ea typeface="Arial"/>
                <a:hlinkClick r:id="rId1"/>
              </a:rPr>
              <a:t>www.presentationmagazine.co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4440" y="196704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3"/>
          <p:cNvGraphicFramePr/>
          <p:nvPr/>
        </p:nvGraphicFramePr>
        <p:xfrm>
          <a:off x="1182600" y="1598760"/>
          <a:ext cx="673272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598760"/>
                    <a:ext cx="673272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29"/>
          <p:cNvSpPr/>
          <p:nvPr/>
        </p:nvSpPr>
        <p:spPr>
          <a:xfrm>
            <a:off x="1143000" y="5397480"/>
            <a:ext cx="55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8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3d2d"/>
                </a:solidFill>
                <a:latin typeface="Trebuchet MS"/>
              </a:rPr>
              <a:t>Text and lines are like th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9a612"/>
                </a:solidFill>
                <a:uFillTx/>
                <a:latin typeface="Trebuchet MS"/>
              </a:rPr>
              <a:t>Hyperlinks like th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9c947"/>
                </a:solidFill>
                <a:uFillTx/>
                <a:latin typeface="Trebuchet MS"/>
              </a:rPr>
              <a:t>Visited hyperlinks like th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46800" y="17812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800"/>
                <a:gridCol w="15858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15"/>
          <p:cNvSpPr/>
          <p:nvPr/>
        </p:nvSpPr>
        <p:spPr>
          <a:xfrm>
            <a:off x="1620720" y="4581360"/>
            <a:ext cx="2232000" cy="1368720"/>
          </a:xfrm>
          <a:prstGeom prst="rect">
            <a:avLst/>
          </a:prstGeom>
          <a:solidFill>
            <a:srgbClr val="499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500720" y="4581360"/>
            <a:ext cx="2232000" cy="1368720"/>
          </a:xfrm>
          <a:prstGeom prst="rect">
            <a:avLst/>
          </a:prstGeom>
          <a:solidFill>
            <a:srgbClr val="49992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af2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caf2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4999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69c9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595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caf27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49992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69c947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59595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6840" y="4463640"/>
            <a:ext cx="63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Rounded Rectangle 4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3809880" cy="2906640"/>
          </a:xfrm>
          <a:prstGeom prst="rect">
            <a:avLst/>
          </a:prstGeom>
          <a:ln w="0">
            <a:noFill/>
          </a:ln>
        </p:spPr>
      </p:pic>
      <p:pic>
        <p:nvPicPr>
          <p:cNvPr id="274" name="Rounded Rectangle 5" descr=""/>
          <p:cNvPicPr/>
          <p:nvPr/>
        </p:nvPicPr>
        <p:blipFill>
          <a:blip r:embed="rId2"/>
          <a:stretch/>
        </p:blipFill>
        <p:spPr>
          <a:xfrm>
            <a:off x="5035680" y="890640"/>
            <a:ext cx="3822480" cy="2906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3"/>
          <a:stretch/>
        </p:blipFill>
        <p:spPr>
          <a:xfrm>
            <a:off x="7943760" y="5662440"/>
            <a:ext cx="838440" cy="100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Information Systems Center</cp:lastModifiedBy>
  <dcterms:modified xsi:type="dcterms:W3CDTF">2015-03-27T17:15:09Z</dcterms:modified>
  <cp:revision>13</cp:revision>
  <dc:subject/>
  <dc:title>Standard PowerPoint Template</dc:title>
</cp:coreProperties>
</file>